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8E1-4AD6-450F-AF32-67C98490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5C9-C2BB-4018-9E49-9EA1878C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8FF-59E2-427B-9A5E-6071DA48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31C-F482-459B-840F-6599BB20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5E2E-A123-4B5A-A129-1BFDC71F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2853-AE56-4926-99C6-416003D6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DD1C-2513-43F8-85A9-CF10148F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5C81-885E-448C-8306-9DF82554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B357-45FE-46AE-9A54-7B722A3D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327A-4D40-4C52-BB47-23483F7A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2069-8048-4958-8BCE-ACC9C6CC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003-D468-4E2E-8779-824C2924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39BE-48E4-4026-80CE-9759F44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A307-2459-481D-AABE-E29567EB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9E4F-7713-42B1-835C-F40609B4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10F6-B2ED-454B-8A85-0CA408DA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96E7-9230-419D-82FC-76D23178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FC3B-B7F2-4741-90B2-2677BE93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A4646-DD08-4CA1-B344-7027FF15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034D-91A5-41A4-B6F4-FCAB3CF4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F473-F25B-4927-8D69-6A19EF04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2D81-5A8B-4010-B834-0461FF9C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9D6-F960-4AE3-8CB3-1A82833C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9035C-41D0-457A-8817-1F2E1A37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A905-CE34-4971-BBB0-00319607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3A57-ECE9-4D9D-AD38-BADE3216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A7FB-7E16-43FC-A479-73626B7E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5884-2228-42B4-8D14-B9CF3086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3E287-B8DE-422A-90D4-5A6676E6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5027-65D9-4C46-9F6D-76045C4A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334B-5EE3-4A77-8E05-F7C1FEE2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143D6-EBD3-433C-B64C-8A0E13E3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97265-42FA-4B3F-82D1-0AAD9905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C75-05F8-4016-BFBA-BB4B8C51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64B6-72B4-4429-9DA0-DA817975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858F-58DF-4050-A44D-126B2F30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9BC3-E6A2-47AF-B16A-7C782BED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4AC36-E452-419A-B3A6-60ADD608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CB3C-0AC1-49CF-B2C3-F5FE084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104E6-949D-48F5-9C44-AB82199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2BE73-CE44-41B7-8FF3-EA4727CF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A1BD-E8D9-4EAC-95FE-E48B072E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A4F67-D251-4A09-847B-C7873821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9486-5E63-4B57-8595-EACA88CA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ABC-8D58-4A75-9B74-CF984702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D9C85-E336-4ED0-BB4F-1767F0E8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B6ACF-2448-4D82-A5BC-14E1A7F1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EA372-48BB-4003-B745-97AF7817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9465-1F96-4FD8-8F85-809B67FA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1369-D575-475B-9A1A-38EEB658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EBBF1-4856-446D-8000-6364061B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711A2-430D-48D6-ADB9-3BF39A36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4EEE3-6AED-4433-97E2-8E65DC1E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EB17F-0D03-4C48-87AC-95CC0697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A5D57-3391-4485-BAB7-8B58AF32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CEE-6306-4A2E-82B9-C97BD45B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982BF-42AE-476F-964B-77124C48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8BDC7-A1C5-4E56-97B8-2F68BADE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AAAB6-77D4-48E2-B559-1B1F5678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E04CC-5B15-429D-9B97-AE9447C1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9300-85B2-49CA-B4A1-10731984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CE49D-911F-425F-AAE3-AFD0FB79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2550B-153D-4149-A3C0-DE4F8F3E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4F772-767F-4670-9329-4676E8F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C564E-73BB-4566-A2E1-A97B52F0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F5A29-9930-4DDD-BECF-31085AFF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9BB-46BC-46FB-956D-027BA30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9D5B5-558F-46C6-AB5B-F71342A2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7826-008F-4ACE-BB00-0B115D8E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31F87-A59B-4469-86B9-769E0886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312BB-F0DC-4B87-A5F2-43CF295A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1C20-51BA-4825-B834-6A48D188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21802-193D-4AB7-8CB5-0E897C67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78B55-0024-44BA-99AA-CCC03783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93D74-1C53-420D-A35C-831075CF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FD160-C88B-4293-AC40-5115C3CC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47768-14FA-440E-BBCD-DB88D33E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4E4-D4C9-443D-9457-196F81D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39449-56F8-444A-B17B-90B600DD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71712-55C3-4713-BF3E-47FCAE6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69C89-EB7D-4FDE-83A5-2A0045B0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6697B-60CD-4BA8-8A21-E58A8F4A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6C4F1-DB97-4E28-A49F-A82700EE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B8EF7-9D6A-46AC-BC92-3ED1A1A9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28D76-027E-4829-AF29-D858C521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417F9-7A9B-4065-8E95-D84D32EC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92932-C40A-47B9-9F7B-DF2AAE62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35C89-43FB-43CB-BB44-3FFFB161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636-CAF4-47AA-A9C0-D56C6521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3E3E2-9FDD-418A-9A23-02E3FC4B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7FF1-89B2-40D5-9BB4-6446AAF7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D02D0-A139-4316-8DEE-4448FAA4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E532F-9363-4C8B-8431-18A9B980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7AE90-2596-490B-A2D3-06779A7C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B43F6-F1F4-4F5B-8A84-C0B67994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D3C7D-452C-4C18-A7BB-A4710D11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63C6-F070-46E4-B4D4-AEA6906F0D8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E003-C80A-4850-B7AC-4433AFC43263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0D82-CABE-4DEA-A5CA-F2E1414B15B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C48A-E04D-4D53-AC63-11D2A0DA033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BF14-967F-4B4A-BCC8-1D2965AB8EA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7343-ACEA-4CE3-B627-E32AE992A3C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6D0F-C023-4742-9E32-F5102751AC7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FCDE-055E-4BE7-8DED-C187557EC1E3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76440" y="1547640"/>
            <a:ext cx="8089560" cy="1847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4646"/>
                </a:solidFill>
                <a:latin typeface="Lucida Sans Unicode"/>
              </a:rPr>
              <a:t>Altabás Navarro,  José Antoni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4646"/>
                </a:solidFill>
                <a:latin typeface="Lucida Sans Unicode"/>
              </a:rPr>
              <a:t>Bravo Pérez, Alejandr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4646"/>
                </a:solidFill>
                <a:latin typeface="Lucida Sans Unicode"/>
              </a:rPr>
              <a:t>Nguyen, Minh Thanh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4646"/>
                </a:solidFill>
                <a:latin typeface="Lucida Sans Unicode"/>
              </a:rPr>
              <a:t>Concolato, Sofi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4646"/>
                </a:solidFill>
                <a:latin typeface="Lucida Sans Unicode"/>
              </a:rPr>
              <a:t>Freier, Til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3 Rectángulo"/>
          <p:cNvSpPr/>
          <p:nvPr/>
        </p:nvSpPr>
        <p:spPr>
          <a:xfrm>
            <a:off x="395280" y="260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Technologies to Reduce the Access Barrier in Human Computer Inte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Erasmus Intensive Program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odu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ce Det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ice Recogn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mi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help disabilities users to access the compu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nect the 3 technologi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ace Detection: OpenCV librar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ice Recognition: Vocal C L I C 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terface: C++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449520" cy="2881080"/>
          </a:xfrm>
          <a:prstGeom prst="rect">
            <a:avLst/>
          </a:prstGeom>
          <a:ln w="0">
            <a:noFill/>
          </a:ln>
        </p:spPr>
      </p:pic>
      <p:pic>
        <p:nvPicPr>
          <p:cNvPr id="378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457800" cy="2885760"/>
          </a:xfrm>
          <a:prstGeom prst="rect">
            <a:avLst/>
          </a:prstGeom>
          <a:ln w="0">
            <a:noFill/>
          </a:ln>
        </p:spPr>
      </p:pic>
      <p:sp>
        <p:nvSpPr>
          <p:cNvPr id="380" name="4 Rectángulo"/>
          <p:cNvSpPr/>
          <p:nvPr/>
        </p:nvSpPr>
        <p:spPr>
          <a:xfrm>
            <a:off x="971640" y="51577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ce is detected only when user looks directly to the webc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246720" cy="3456000"/>
          </a:xfrm>
          <a:prstGeom prst="rect">
            <a:avLst/>
          </a:prstGeom>
          <a:ln w="0">
            <a:noFill/>
          </a:ln>
        </p:spPr>
      </p:pic>
      <p:pic>
        <p:nvPicPr>
          <p:cNvPr id="382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ce´s angle (approx. 20° in 0.5m) and distance (approx. 2.5m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ong det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ce v.s. Voi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Very useful for disabled users, who cannot use their ha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mproves the usability of Vocal C L I C 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posal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Match of face and voice of the same us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Improves the sensitive of the detec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Improves Vocal C L I C 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4:34:14Z</dcterms:created>
  <dc:creator>etsinf</dc:creator>
  <dc:description/>
  <dc:language>en-US</dc:language>
  <cp:lastModifiedBy>etsinf</cp:lastModifiedBy>
  <dcterms:modified xsi:type="dcterms:W3CDTF">2011-04-08T09:38:09Z</dcterms:modified>
  <cp:revision>8</cp:revision>
  <dc:subject/>
  <dc:title>Face Detection &amp; Voice Recognition</dc:title>
</cp:coreProperties>
</file>